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raceli Pedroza Jimèn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8AF0-5477-40A1-90A3-306D7FB5223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9C9-C59E-4524-845B-35BBD244A59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raceli Pedroza Jimèn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6F4-91BC-4B3C-980D-AF5E814D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D5D-F894-4239-8A57-D5681DFE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B86-FB99-4360-9227-76D66A36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E26-9ED3-458A-BD35-C2970768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E2F0F-D576-44C4-843C-2804782D5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9DF7F-A53D-42D9-9FA9-75A7EA4D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FCC16-F9D8-4D30-AEBC-A87F015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9521E-B7A1-4D76-8D41-480DA596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BA0F-9FAB-4DAC-9E37-65643717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CFC77-8302-4E82-879B-30F1A1EF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1A23-C980-490F-8BBB-52F2116C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5F4-11FF-40E5-B3E7-8E4FB7D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CA00C-0759-41D7-8A7F-AF3F226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5F3D-8ED9-4DDE-B745-676EE1C5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F20AC-835A-41A1-89AA-C4A6290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0ACB8-320F-437A-89A0-B074B13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3030D-603C-45FC-A03F-7367BA7113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AF0-D672-4CC4-97C3-895D763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1B1-D5A3-4B21-BE4A-3E294AB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272-22B7-4B01-BBA0-0CFF3A7D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648-58F2-471E-A96D-B9E9F3A5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E44-D612-48D8-9B4F-68E7B98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207-FADA-4C3E-9D9D-155C402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0BF-D16C-4546-8DDE-39BABA2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6165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B754-864C-4578-9A36-25BD197C66D4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3"/>
          <a:stretch/>
        </p:blipFill>
        <p:spPr>
          <a:xfrm>
            <a:off x="-20520" y="6746760"/>
            <a:ext cx="9164520" cy="138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" descr=""/>
          <p:cNvPicPr/>
          <p:nvPr/>
        </p:nvPicPr>
        <p:blipFill>
          <a:blip r:embed="rId4"/>
          <a:stretch/>
        </p:blipFill>
        <p:spPr>
          <a:xfrm>
            <a:off x="250920" y="108000"/>
            <a:ext cx="865080" cy="83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616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-20520" y="6746760"/>
            <a:ext cx="9164520" cy="138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50920" y="108000"/>
            <a:ext cx="865080" cy="834840"/>
          </a:xfrm>
          <a:prstGeom prst="rect">
            <a:avLst/>
          </a:prstGeom>
          <a:ln w="0">
            <a:noFill/>
          </a:ln>
        </p:spPr>
      </p:pic>
      <p:pic>
        <p:nvPicPr>
          <p:cNvPr id="47" name="9 Imagen" descr=""/>
          <p:cNvPicPr/>
          <p:nvPr/>
        </p:nvPicPr>
        <p:blipFill>
          <a:blip r:embed="rId5"/>
          <a:stretch/>
        </p:blipFill>
        <p:spPr>
          <a:xfrm>
            <a:off x="5580000" y="297000"/>
            <a:ext cx="1892520" cy="539640"/>
          </a:xfrm>
          <a:prstGeom prst="rect">
            <a:avLst/>
          </a:prstGeom>
          <a:ln w="0">
            <a:noFill/>
          </a:ln>
        </p:spPr>
      </p:pic>
      <p:pic>
        <p:nvPicPr>
          <p:cNvPr id="48" name="10 Imagen" descr=""/>
          <p:cNvPicPr/>
          <p:nvPr/>
        </p:nvPicPr>
        <p:blipFill>
          <a:blip r:embed="rId6"/>
          <a:stretch/>
        </p:blipFill>
        <p:spPr>
          <a:xfrm>
            <a:off x="7877160" y="260280"/>
            <a:ext cx="871560" cy="644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E37F-C5C8-4AFA-9DE9-0CB5CC98F1BF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 Rectángulo" descr=""/>
          <p:cNvPicPr/>
          <p:nvPr/>
        </p:nvPicPr>
        <p:blipFill>
          <a:blip r:embed="rId1"/>
          <a:stretch/>
        </p:blipFill>
        <p:spPr>
          <a:xfrm>
            <a:off x="841320" y="993600"/>
            <a:ext cx="6583320" cy="3913200"/>
          </a:xfrm>
          <a:prstGeom prst="rect">
            <a:avLst/>
          </a:prstGeom>
          <a:ln w="0">
            <a:noFill/>
          </a:ln>
        </p:spPr>
      </p:pic>
      <p:pic>
        <p:nvPicPr>
          <p:cNvPr id="97" name="il_fi" descr="http://4.bp.blogspot.com/-Ii6Uj4S-qc4/TfuzVVoF6gI/AAAAAAAAA-o/PWq8afA2HVk/s1600/DSC04754.JPG"/>
          <p:cNvPicPr/>
          <p:nvPr/>
        </p:nvPicPr>
        <p:blipFill>
          <a:blip r:embed="rId2"/>
          <a:stretch/>
        </p:blipFill>
        <p:spPr>
          <a:xfrm>
            <a:off x="6227640" y="3429000"/>
            <a:ext cx="2521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42560" y="980640"/>
            <a:ext cx="7777080" cy="496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Calibri"/>
              </a:rPr>
              <a:t>Generar acciones para que directivos y docentes comprendan y se apropien críticamente del Plan y  los Programas de Estudi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Calibri"/>
                <a:ea typeface="Aharoni"/>
              </a:rPr>
              <a:t>Impulsar y orientar el trabajo colegiado en las escuelas de educación básic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Promover procesos de evaluación diagnóstica y permanente atendiendo a los resultados obtenidos en diversas fuentes, entre ellas, las pruebas estandarizada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Título"/>
          <p:cNvSpPr/>
          <p:nvPr/>
        </p:nvSpPr>
        <p:spPr>
          <a:xfrm>
            <a:off x="1332000" y="1557360"/>
            <a:ext cx="7056360" cy="2592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FORMACIÓN Y ACTUALIZACIÓN PROFESIONAL PARA ASESORES ACADÈMIC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55640" y="836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 SAAE plantean tres líneas de form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s dos primeras constituyen una plataforma común orientada a la profesionalización de la  asesoría académica y al conocimiento, análisis y reflexión de la política educativa. Se dirige a todo el universo de asesores académ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tercera, se orienta al fortalecimiento para el desempeño de las tareas específicas relacionadas con las necesidades particulares de docentes y directivos de cada nivel y o modalidad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 Rectángulo"/>
          <p:cNvSpPr/>
          <p:nvPr/>
        </p:nvSpPr>
        <p:spPr>
          <a:xfrm>
            <a:off x="552600" y="549360"/>
            <a:ext cx="826740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articipación en el diagnóstico  y  construcción de los lineamientos nacionales para la operación del SAA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ntegración del equipo estatal responsable de la operación  del SAA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iagnóstico de la situación que guarda el servicio de asesoría académica a las escuela de educación básica en el est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iseño del trayecto formativo para asesores académicos en coordinación con la Instancia Estatal de Formación Contin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 Título"/>
          <p:cNvSpPr/>
          <p:nvPr/>
        </p:nvSpPr>
        <p:spPr>
          <a:xfrm>
            <a:off x="5435640" y="115920"/>
            <a:ext cx="3240000" cy="433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ACCION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 CuadroTexto"/>
          <p:cNvSpPr/>
          <p:nvPr/>
        </p:nvSpPr>
        <p:spPr>
          <a:xfrm>
            <a:off x="468360" y="692280"/>
            <a:ext cx="82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eforma Integral de la Educación Bá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educación enfocada a la resolución de problemas, más que en la  acumulación de conten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rucción de modelos de gestión que impulsen la autonomía de las escuel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actualización permanente de los docentes orientada a la gestión de los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ización permanente de los materiales educ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Articulación de los niveles de educación B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Araceli Pedroza J   Gestiòn Esc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4 CuadroTexto"/>
          <p:cNvSpPr/>
          <p:nvPr/>
        </p:nvSpPr>
        <p:spPr>
          <a:xfrm>
            <a:off x="755640" y="119700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Reforma Integral de la Educación Básica requiere que los colectivos escolares desarrollen nuevas formas de relación, colaboración y organización; es decir, una gestión que se centre en el aprendizaje de los alumnos, con corresponsabilidad, transparencia y rendición de cuen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CuadroTexto"/>
          <p:cNvSpPr/>
          <p:nvPr/>
        </p:nvSpPr>
        <p:spPr>
          <a:xfrm>
            <a:off x="755640" y="1179360"/>
            <a:ext cx="76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asesoría y acompañamiento sistemático y cotidiano a las escuelas, retoma el modelo de gestión, como eje integrador y organizativo de los componentes, líneas de acción y estrategias para la mejora del logro educativo, atendiendo desde el espacio escolar la actualización de docentes y directiv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Título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589960" cy="950760"/>
          </a:xfrm>
          <a:prstGeom prst="rect">
            <a:avLst/>
          </a:prstGeom>
          <a:ln w="0">
            <a:noFill/>
          </a:ln>
        </p:spPr>
      </p:pic>
      <p:pic>
        <p:nvPicPr>
          <p:cNvPr id="103" name="5 Marcador de contenido" descr=""/>
          <p:cNvPicPr/>
          <p:nvPr/>
        </p:nvPicPr>
        <p:blipFill>
          <a:blip r:embed="rId2"/>
          <a:stretch/>
        </p:blipFill>
        <p:spPr>
          <a:xfrm>
            <a:off x="401760" y="1189080"/>
            <a:ext cx="83404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Título"/>
          <p:cNvSpPr/>
          <p:nvPr/>
        </p:nvSpPr>
        <p:spPr>
          <a:xfrm>
            <a:off x="3851280" y="333360"/>
            <a:ext cx="5041800" cy="827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Propósito general del SAA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2 CuadroTexto"/>
          <p:cNvSpPr/>
          <p:nvPr/>
        </p:nvSpPr>
        <p:spPr>
          <a:xfrm>
            <a:off x="527040" y="1557360"/>
            <a:ext cx="8136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  <a:ea typeface="Calibri"/>
              </a:rPr>
              <a:t>Establecer mecanismos de acompañamiento académico institucional para atender pertinentemente las necesidades específicas de los docentes, derivadas de su práctica educativa cotidiana relacionada directamente con el logro educativo de sus estudian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040360" cy="720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ropósitos específ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25000"/>
            <a:ext cx="792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a)Conocer el status de la función de asesoría que prevalece  en  e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b) Identificar áreas de oportunidad a fin de generar condicione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decuadas para las tareas propias de la asesoría académica a la escuel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c) Ofrecer una formación adecuada a las figuras que brindan asesoría académ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Calibri"/>
              </a:rPr>
              <a:t>d) Implementar procesos de acompañamiento a las escuelas de educación básica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6553080" cy="244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La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Asesoría Académica a la Esc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836640"/>
            <a:ext cx="8208720" cy="511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asesoría académica a la escuela se entiende como un proceso orientado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mpulsar y apoyar la mejora continua de los procesos educativos  que afectan la enseñanza y el aprendizaje de los estudiantes de educación bás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romover y apoyar los procesos formativos de directivos  y docentes, a partir de  la reflexión sistemática sobre sus prácticas educativas y de gest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5:44:15Z</dcterms:created>
  <dc:creator>NORMA ERIKA MARTINEZ FERNANDEZ</dc:creator>
  <dc:description/>
  <dc:language>en-US</dc:language>
  <cp:lastModifiedBy>Martha Alicia Vital Montes</cp:lastModifiedBy>
  <cp:lastPrinted>2011-08-30T17:25:20Z</cp:lastPrinted>
  <dcterms:modified xsi:type="dcterms:W3CDTF">2012-05-17T19:21:52Z</dcterms:modified>
  <cp:revision>301</cp:revision>
  <dc:subject/>
  <dc:title>Presentación de PowerPoint</dc:title>
</cp:coreProperties>
</file>